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63FDC-FF7A-4C1B-BD03-286146B13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AA9C-D459-4CC0-AD1D-302D13B8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4F9EB-9C09-4B8D-B84E-ACF2A9584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2D2FA-8A3D-4404-B3BB-0C500DEA9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4014-81BD-4BCA-B2B0-5F0CC8311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2FF9-F9A4-4C3A-B06B-F2159090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46BF-4042-4794-B159-66131B6C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F5DE-C306-4F1C-B276-7A04DBE5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ECC0-3811-4809-832D-7F6CDE09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88F4-D90D-41C8-9C48-39B7B6D5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20A6-6273-4F77-B39C-FBCE132F7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AA3D-CD25-492F-9E93-BC1531C5E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 name="PlaceHolder 2"/>
          <p:cNvSpPr>
            <a:spLocks noGrp="1"/>
          </p:cNvSpPr>
          <p:nvPr>
            <p:ph type="body"/>
          </p:nvPr>
        </p:nvSpPr>
        <p:spPr>
          <a:xfrm>
            <a:off x="457200" y="1600200"/>
            <a:ext cx="8229600" cy="4525920"/>
          </a:xfrm>
          <a:prstGeom prst="rect">
            <a:avLst/>
          </a:prstGeom>
          <a:solidFill>
            <a:srgbClr val="ffffff">
              <a:alpha val="75000"/>
            </a:srgbClr>
          </a:solidFill>
          <a:ln w="9360">
            <a:solidFill>
              <a:srgbClr val="000000"/>
            </a:solidFill>
            <a:miter/>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7105-5EC5-47CD-906E-4D94C50C2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Decline of Feudalism</a:t>
            </a:r>
            <a:endParaRPr b="0" lang="en-US" sz="4400" spc="-1" strike="noStrike">
              <a:solidFill>
                <a:srgbClr val="000000"/>
              </a:solidFill>
              <a:latin typeface="Cambr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Decline of Feudalism</a:t>
            </a:r>
            <a:endParaRPr b="0" lang="en-US" sz="4400" spc="-1" strike="noStrike">
              <a:solidFill>
                <a:srgbClr val="000000"/>
              </a:solidFill>
              <a:latin typeface="Cambria"/>
            </a:endParaRPr>
          </a:p>
        </p:txBody>
      </p:sp>
      <p:sp>
        <p:nvSpPr>
          <p:cNvPr id="43"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Hundred Years’ war, both the English and the French monarchies and their kings gained greater power and took complete control of their governments. The Medieval Feudal system worked well for many hundreds of years but the decline of feudalism occurred and was due to a number of events which occurred. Feudalism was based on the division of land by the king to nobles and vassals in return for their military service. Land was the main source of the economy and was dependent on the peasants who worked on the land. </a:t>
            </a:r>
            <a:endParaRPr b="0" lang="en-US" sz="28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5"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feelings of nationalism in both countries facilitated the break from the feudal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egiance shifted from local lords to the k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beginning of nations: People bo und together by a common government, language, culture and set of ideas. </a:t>
            </a:r>
            <a:endParaRPr b="0" lang="en-US" sz="32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7"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usades and travel during the Middle Ages opened new trade options to Englan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started to move from land based economy to a money based economy</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lack Death - reduced the population of England by one third.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asants Revolt - Peasants realized their worth and demanded changes. </a:t>
            </a:r>
            <a:endParaRPr b="0" lang="en-US" sz="32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9"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asants moved away from the country into towns they were eventually allowed to buy their freedo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 was rented and the rights of lords over labor decreased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entralized government was established</a:t>
            </a:r>
            <a:endParaRPr b="0" lang="en-US" sz="32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Standing Armies </a:t>
            </a:r>
            <a:endParaRPr b="0" lang="en-US" sz="4400" spc="-1" strike="noStrike">
              <a:solidFill>
                <a:srgbClr val="000000"/>
              </a:solidFill>
              <a:latin typeface="Cambria"/>
            </a:endParaRPr>
          </a:p>
        </p:txBody>
      </p:sp>
      <p:sp>
        <p:nvSpPr>
          <p:cNvPr id="51"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line of feudalism came when rich nobles were allowed to pay for soldiers rather than to fight themselves. Life changed and Mercenaries were hired from all over Europe. The Mercenaries had few allegiances, except to money, and these paid fighting men were feared throughout Europe. The threat of the Mercenaries led on to the employment of professional, trained soldiers - the Standing Armies and ultimately the end of Middle Ages feudalism in England.  </a:t>
            </a:r>
            <a:endParaRPr b="0" lang="en-US" sz="28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End of Feudalism in England </a:t>
            </a:r>
            <a:endParaRPr b="0" lang="en-US" sz="4400" spc="-1" strike="noStrike">
              <a:solidFill>
                <a:srgbClr val="000000"/>
              </a:solidFill>
              <a:latin typeface="Cambria"/>
            </a:endParaRPr>
          </a:p>
        </p:txBody>
      </p:sp>
      <p:sp>
        <p:nvSpPr>
          <p:cNvPr id="53"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feudalism the King was answerable to the Pope. At the end of the Middle Ages King Henry VIII clashed with the Pope and England subsequently broke with the Catholic church of Rome and the power of the Pope. This led to the establishment of the Church of England and the Dissolution of the Monasteries. It was the final 'nail in the coffin' of the Medieval Feudal System, feudalism, in England. </a:t>
            </a:r>
            <a:endParaRPr b="0" lang="en-US" sz="32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4:54:51Z</dcterms:created>
  <dc:creator>Administrator</dc:creator>
  <dc:description/>
  <dc:language>en-US</dc:language>
  <cp:lastModifiedBy>IT User</cp:lastModifiedBy>
  <dcterms:modified xsi:type="dcterms:W3CDTF">2011-05-30T17:31:33Z</dcterms:modified>
  <cp:revision>5</cp:revision>
  <dc:subject/>
  <dc:title>Medieval Governments</dc:title>
</cp:coreProperties>
</file>